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1B1-E649-41B8-A3C8-22E4A1AA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7B5-8CA5-4CB0-A02D-8E564D5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7A1-9328-41BA-AC5C-4FBB33F5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7CE-966B-45AF-B94C-0284528C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B4B-01B4-4769-818C-F5D24294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419-0C78-4243-B823-E83A61D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379-DAFF-4C23-A79D-43A8CF9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972-DEE6-45B7-A28D-4872FB73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513-6E2F-4055-9CE7-740799D5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3FF-9924-4791-A09D-EBA9536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B3D-8506-4F11-A68D-28FC4E8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55D-71C7-4769-947C-BFE1920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D44E-25BB-4738-A023-68744B909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уществление основных графических операций от руки и с использованием чертёжных инстр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симов Илья, 646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 ребёнка построению основных графических операций от руки и с использованием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триховка в заданных 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дорожек разной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композиций из линий различных типов и разны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ение точек с помощью лине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линий с помощью линей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30:41Z</dcterms:created>
  <dc:creator>Илья</dc:creator>
  <dc:description/>
  <dc:language>en-US</dc:language>
  <cp:lastModifiedBy>Илья</cp:lastModifiedBy>
  <dcterms:modified xsi:type="dcterms:W3CDTF">2010-11-24T17:30:56Z</dcterms:modified>
  <cp:revision>1</cp:revision>
  <dc:subject/>
  <dc:title>Слайд 1</dc:title>
</cp:coreProperties>
</file>